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75847"/>
        <c:axId val="24577788"/>
      </c:barChart>
      <c:catAx>
        <c:axId val="79375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7788"/>
        <c:crosses val="autoZero"/>
        <c:auto val="1"/>
        <c:lblAlgn val="ctr"/>
        <c:lblOffset val="100"/>
        <c:noMultiLvlLbl val="0"/>
      </c:catAx>
      <c:valAx>
        <c:axId val="2457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75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6A2-341B-420D-9A4D-9F0262CD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4A1-AF67-43E2-BEF9-7C91F75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6AC-B9DB-4D47-872D-3ADFD01F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B8C-3200-4415-AB57-AEC2042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556-B3BE-4275-B63B-527BE2A1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184-D0D8-4E81-BCE5-B5CD8FA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394-CE88-4C70-95C7-CD800F9D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C4C-CA46-4ACD-A105-31DCCCEA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608-BD25-46E1-A072-3D5C9344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34B-EB08-4E4E-9533-BE472F1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4ED-5F14-4244-944C-D096D59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ACA-96E1-4979-8E3A-AF2C3B7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448AF-E187-4EA5-A68D-BA5BEAC19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