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32634"/>
        <c:axId val="39673127"/>
      </c:barChart>
      <c:catAx>
        <c:axId val="72132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3127"/>
        <c:crosses val="autoZero"/>
        <c:auto val="1"/>
        <c:lblAlgn val="ctr"/>
        <c:lblOffset val="100"/>
        <c:noMultiLvlLbl val="0"/>
      </c:catAx>
      <c:valAx>
        <c:axId val="39673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32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3CC-01D5-42B5-B4CC-6FAB32B3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CE2-69D4-4C06-A540-7E10C0BD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7AE-CA21-4AF4-B714-D681418D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1D6-5428-4CD3-B36F-FD967CBD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23F-DB88-495E-9DCC-958C4C4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AD8-5680-438D-9534-5FBB4CF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A76-F0D5-43B4-8233-5A427E79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7C8-84C7-403A-BBFA-37C9C8A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8D4-FBAC-46ED-92CE-CE05C99F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17F-EEAA-489B-85B2-74D3C37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913-A3A9-4E58-A618-B7A0920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C3C-D384-4C94-82A2-6E70F605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1131C-6E71-4463-ABA6-D05215D315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