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761040"/>
        <c:axId val="88870056"/>
      </c:barChart>
      <c:catAx>
        <c:axId val="247610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70056"/>
        <c:crosses val="autoZero"/>
        <c:auto val="1"/>
        <c:lblAlgn val="ctr"/>
        <c:lblOffset val="100"/>
        <c:noMultiLvlLbl val="0"/>
      </c:catAx>
      <c:valAx>
        <c:axId val="88870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610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ADC-D5E2-441C-AAF0-90E9E8EF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70C-6FD0-41F7-99C3-841494CF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54C-29D0-4BFC-8F7A-EFC51228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8DE6-9CE8-4E36-9442-056C0081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6CEF-9AC2-4454-94BB-46B643D0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CFC-38A7-4BD0-AF8E-4FFE5A3D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D12-DF87-483F-8277-A6B2EC5A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1645-658D-477D-A7C8-BB473476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C547-612F-4069-9F56-76ED04A2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BEFD-0F8A-4CEE-9F2F-9500046E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926-1C74-4474-97F4-938B6048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3A56-F6C6-4F3D-A929-E7D16CBE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8ABD2-8594-40A6-9F8F-8B05C802B1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