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33857"/>
        <c:axId val="83278920"/>
      </c:barChart>
      <c:catAx>
        <c:axId val="45633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78920"/>
        <c:crosses val="autoZero"/>
        <c:auto val="1"/>
        <c:lblAlgn val="ctr"/>
        <c:lblOffset val="100"/>
        <c:noMultiLvlLbl val="0"/>
      </c:catAx>
      <c:valAx>
        <c:axId val="83278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33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E5E-0C5F-42DB-9020-A471E0B6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D92-74E2-4B2D-9A21-E56C387E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25C-63BA-48BB-BBBF-76F88A50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651-5730-4BDD-A26D-DA254BBB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B33-BA8A-4B97-ACE0-F9E72F16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749-A386-4FA9-A5DE-6DE63D07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F47-A0E4-4B0B-BBFA-9A9EE0D4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68B-4B63-4C48-B41E-FBDBD711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A20-A6E5-489C-BEFA-C3E5E10E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06C-0904-4F4B-8EEF-20860DA2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8A9-078D-496A-A39E-D1B6AE89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367-ED64-4333-977A-AA18B114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FE9BF-9F87-4F2A-A12A-DAC99A8B45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