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250890"/>
        <c:axId val="94190052"/>
      </c:barChart>
      <c:catAx>
        <c:axId val="802508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190052"/>
        <c:crosses val="autoZero"/>
        <c:auto val="1"/>
        <c:lblAlgn val="ctr"/>
        <c:lblOffset val="100"/>
        <c:noMultiLvlLbl val="0"/>
      </c:catAx>
      <c:valAx>
        <c:axId val="941900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508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F416-C379-4FF0-9FEC-D6A935EF3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0027-BD97-4612-8792-EBC7DE05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4A95-D7DD-4C34-A611-9EBD7BE1A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07AD-49D5-4B01-945A-4485E6420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B4E6-3B45-4355-A4C7-2CBB5B8E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B724-B57D-4A25-A5F7-0E0664C1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9CEC-230A-4769-AB4A-5E836408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A30D-B62F-4AD5-A22F-B794E4AF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7AB3-5A07-4454-9196-94AA4AAF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73D9-A987-4BCD-92CE-B06EDFC3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7FFB-1C38-4DB3-BCC6-3A5D2AA6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CFCD-B001-4F47-9C88-7524FE16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FCD427-AFA8-4BEE-984A-2FFA7EB090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